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6289-3529-4FD8-B7B8-E1AB5422F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E902-4887-4285-8318-FB268451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D716-4AAF-4948-87BF-3F41E899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0098-3FB1-4812-8EB5-8C9FDFC0C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865D-49D8-4941-8873-C5CF5BD0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D7B4-DCAC-41EF-ACE4-0964DCED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7E58-5368-4BF9-BD7D-EF0888A1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8520-47B7-4BE9-B824-9FF982B3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F2CD-8DFC-4D7A-89C6-3385E576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0A48-01E1-4F14-98A6-EDDE7B8A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4DE6-1D54-490D-868A-5DFAC963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21A8-D185-4E39-9E65-7C8DDF27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A87D-9CB9-4965-B6E7-892EEEE2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5C1F-F387-4257-AA74-4EEAC857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72B0-C774-4C0E-BE1A-EAD87925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3830-2CDB-4DF4-9B8D-A18BC2464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0C0C-8F29-4330-BABB-63E2AEB37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41B2-FAC7-4615-8EA8-B9B0919C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9115-AA55-4FA2-B851-2B930104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1CF5-6F1C-4205-B0CE-E101CF59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9DFA-CB8A-40BF-88A4-64A5D276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7612-BA11-4B73-A027-7B400A0A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DAC8-C75F-4E1A-AB2E-F8F9B8F4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F5D2-8777-4986-A506-72B28CB4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79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564A-400E-4025-8817-EEDBF2B7C91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79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19E9-9EE0-437E-8DD2-B239DF9D3D0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79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Linguistic Term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ds You Need to Kn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79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diolec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nguage unique to an individu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ds we say that others don’t (we often make these up by pulling from existing words in the languag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79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colec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alect variant specific to a househo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ed from an idiol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 Lala (kiss without moving lips; just touch skin but make no nois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79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Linguistic Terms for Standard English and Dialect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criptively Correct English:  Standard English; used to describe the “correct” way to speak or write; offers a prescription for how people should use Englis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hetorically Correct English:  is influenced by the context in which speaker finds him/herself; appropriate language is governed by speaker’s intention, audience, and contex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14:58:23Z</dcterms:created>
  <dc:creator>Teacher</dc:creator>
  <dc:description/>
  <dc:language>en-US</dc:language>
  <cp:lastModifiedBy>Faculty</cp:lastModifiedBy>
  <dcterms:modified xsi:type="dcterms:W3CDTF">2008-08-27T17:35:58Z</dcterms:modified>
  <cp:revision>2</cp:revision>
  <dc:subject/>
  <dc:title>Linguistic Terms</dc:title>
</cp:coreProperties>
</file>